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2B7E-23CF-4732-8219-1B0C5272C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E59E-05F9-4E06-8899-17B2FCD5D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250B-63D6-4B7B-A75F-1C6064B8B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896F-D8F1-402B-AD0D-F67C6A222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688B9-C636-4027-8E53-A45911FF6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D96CD-B7A0-4E75-9046-7020A7329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460CE-4C9C-40C8-9FCE-95925DE3D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9B456-663A-4D4B-BA30-FC880A94C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B067D-D7B7-4400-B3A7-3B4C6C6C8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E8A01-E6EE-49FD-AA49-12EEB459D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E7D42-7691-4D82-B0DF-CA71ACC0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AB2E-66BA-4B21-A2CA-D2872F8B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8D228-F446-4A13-A98E-6CE17B92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3C972-75F2-48A3-BE43-3E74FB8D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F77D2-9B41-4F94-A45E-3B14BE3FE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D003F-6800-44C2-BEAC-56DB7D8DE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9BA5A-2892-45D3-8D61-9E031B0B1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F4AC-AAD1-42B5-ADA3-5EDB1F3C4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88F5-3033-4191-A659-F57F00EF9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88DC-D47C-4FF7-90F5-544D63C36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79A4-EA81-4472-A1A5-B7A36693A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2C9A-08BE-4B5C-95C8-065988F2C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6D57-D660-4DFA-A8FD-C79E707F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47AF-5D9F-4E8E-9AC1-676FD49D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BE1B3-BC8A-4484-BB97-D95BD26FE94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50A41-EA10-44DC-827E-E254001992B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ext as Mus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Based on a Presentation by Dr. Julie Joslin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Section Lead ELA 9-12 NCDPI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o. 6 Teacher Evaluation Instrument – Student Growth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% EOC or MS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0% A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w Much Informational Reading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cus on the student!!!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y collaborate? Why PLC’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llaboration makes a teacher’s life easier and it has the potential to improve student growth – a host of ideas and approach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proves teacher and student accountabilit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LC’s provide support, information, and they generate new idea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fter all, who has all the answers?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ample Pacing Guid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ext as Mus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nk of texts that caused you 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fle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a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ri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y this text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oose texts that support standar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uality vs. Quantity (Not a mile wide and an inch deep.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ve the end result in mind (e.g. graduation paper.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have to love it – a text that’s worth reread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ig Ques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y am I asking students to read this tex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big idea do I want my students to take away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.g. Why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ach the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Epic of Gilgamesh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Shif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ad like a _______________ and write like an ________________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ad like a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tectiv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write like an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vestigative report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is is the year of evidence.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achers must prepare text-based tasks.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!!!!!Emphasize questions that force students back to the text!!!!!!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ading to Write in the Classroo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does it say?  (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Summary.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does it mean? (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Infer and Get the Big Idea.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y does it matter? (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Reflect.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 Am Giving You This Poem”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 mu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 evid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ample Performance Tas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reate a performance Tas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me issu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rgumentative vs. Persuasive (reasoning vs. emotional.)  The emphasis is argumentativ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hakespeare – Do we have to teach the whole text? (No.) Be creativ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aduation Project – Build your course around i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8T19:16:16Z</dcterms:created>
  <dc:creator>Dspence</dc:creator>
  <dc:description/>
  <dc:language>en-US</dc:language>
  <cp:lastModifiedBy>Dspence</cp:lastModifiedBy>
  <dcterms:modified xsi:type="dcterms:W3CDTF">2012-03-09T13:22:34Z</dcterms:modified>
  <cp:revision>3</cp:revision>
  <dc:subject/>
  <dc:title>Text as Muse</dc:title>
</cp:coreProperties>
</file>